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D63F6-27A5-4E1A-82B4-B210CF9346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7C5F6-80D6-4EA6-A82E-BE546B198A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C534-3674-49E7-AB14-51EF9D950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0C8-39EE-42CC-8819-7A0306EEB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D140-77F0-41B1-8AB2-4AF5AAC59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1785-0712-4DEA-A538-C8E283139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0B2F-C0BD-4617-9B46-A53B58C7B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B735-6DE4-42A5-A30A-A970FE79D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D055-D246-4BEE-A8D2-4453C5A7F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BE9A-6466-4F38-852B-B6470E81C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18F4-789A-49C5-866D-D65B5608B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5F43-C8BC-4A53-B506-A2F463262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F827-B179-4106-BA8F-D6BB95A14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780E-3CF4-47D8-8644-AFE07934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94D26B-ECA8-49A7-8746-A0E501425E1F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1AB4DA2B-BF32-40C7-8C83-E38DBACD738B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Samen met andere expert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Inhoudelijk (door)ontwikkelen RSGB /RGBZ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onderdelen en bijbehorende document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Voorbereiden van de release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antwoordelijkhe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Beoordelen ingediende wijzigingsaanvrag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uitwerken ervan i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Doel &amp; Verantwoord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Onderwer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nrichten beheer RSGB / RGB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goedkeuren RSGB / RGBZ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volgacties n.a.v.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harmonisatie STUF – N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mpact nieuwe versies basisregistra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(NHR, WOZ, MGB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orontwikkeling RGBZ+ (klantcontacte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behandele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Ellen Debats</dc:creator>
  <dc:description/>
  <dc:language>en-US</dc:language>
  <cp:lastModifiedBy>Debat_E</cp:lastModifiedBy>
  <dcterms:modified xsi:type="dcterms:W3CDTF">2010-09-09T07:52:17Z</dcterms:modified>
  <cp:revision>76</cp:revision>
  <dc:subject/>
  <dc:title>startbijeenkomst expertgroep informatiemodellen</dc:title>
</cp:coreProperties>
</file>